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7.jpeg" ContentType="image/jpeg"/>
  <Override PartName="/ppt/media/image6.png" ContentType="image/png"/>
  <Override PartName="/ppt/media/image9.wmf" ContentType="image/x-wmf"/>
  <Override PartName="/ppt/media/image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wmf" ContentType="image/x-wmf"/>
  <Override PartName="/ppt/media/image15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/</a:t>
            </a:r>
            <a:fld id="{1B7F1DA8-D1CB-4E2B-ABBD-CF2FC53B656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676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124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iistvara ja tarkvar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üüsilised, käegakatsutavad osa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: klaviatuur, monitor, integraalskeemi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id ja andm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 on jada instruktsioo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97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1143000" cy="95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2"/>
          <a:stretch/>
        </p:blipFill>
        <p:spPr>
          <a:xfrm>
            <a:off x="7391520" y="4191120"/>
            <a:ext cx="135720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 ja program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täpne samm-sammuline, kuid mitte tingimata formaalne juhend millegi tegemiseks. Näite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oiduretsep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uhend ruutvõrrandi lahendamisek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iline probleem -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bleem, mille lahendus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ab kirja panna täidetavate juhendite loetelu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m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formaalses, üheselt mõistetavas keeles kirja pandud algoritm. Arvutid suudavad täita ainult programm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0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aloog- ja digitaal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naloogsüste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meid salvestatakse (peegeldatakse) proportsionaalsel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: termomeeter, vinüülplaat, fo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Digitaalsüste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pidevad) andmed lõhutakse üksikuteks tükkideks, mis salvestatakse erald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: CD, arvutiprogramm, kiri tähtede ja bittiden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Ühelt teisele: digitaliseerimi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09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inüülplaat: info analoogkuju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1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959280" y="3060720"/>
            <a:ext cx="5018040" cy="3213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447840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lis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2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200720" cy="504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alse info salvest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6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27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463680" y="720720"/>
            <a:ext cx="3676680" cy="3586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3105000" y="2700360"/>
            <a:ext cx="5715000" cy="35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ti ehi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õhiprotsess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teeb pea kogu töö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õhimälu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hoiab aktiivses kasutuses olevaid programme ja andme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ismälu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pikaajaliseks säilitamiseks (kõvaketas, flopid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isseadme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monitor, klaviatuur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3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5364000" y="2895480"/>
            <a:ext cx="2865600" cy="2997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990720" y="4105440"/>
            <a:ext cx="2514600" cy="180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õhiprotsessor (CPU) ja mäl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8487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4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PU ja muud seadm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44" name="Group 2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45" name="Line 3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4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s on ja mis ei ole arvuti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Wikipedi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 computer is a general purpose device that can be programmed to carry out a set of arithmetic or logical operations. Since a sequence of operations can be readily changed, the computer can solve more than one kind of problem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Goog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n electronic device which is capable of receiving information (data) in a particular form and of performing a sequence of operations in accordance with a predetermined but variable set of procedural instructions (program) to produce a result in the form of information or signal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One course in </a:t>
            </a:r>
            <a:r>
              <a:rPr b="1" i="1" lang="en-GB" sz="1800" spc="-1" strike="noStrike">
                <a:solidFill>
                  <a:srgbClr val="000000"/>
                </a:solidFill>
                <a:latin typeface="Bitstream Vera Sans"/>
              </a:rPr>
              <a:t>Univ. of Virginia</a:t>
            </a: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computer is a device which takes data in one form, uses it, and produces a different form of information which is related to (but not the same as) the original dat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ursuse eesmär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gi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Hindami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oengukav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Kirjandus, lisamaterjalid, viite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õhimõiste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rinevad koolkonna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5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three major comparisons of computers ar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ctronic computers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chanical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eneral-purpose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cial-purpose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gital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alog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ks algallikatest: Remingtoni revolv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557360" y="1797120"/>
            <a:ext cx="6132600" cy="331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üssitootmise tehnoloogia võimaldas: Remingtoni 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1968480" y="1346040"/>
            <a:ext cx="5308560" cy="421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mehhaaniline programmeeritav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1233360" y="1440000"/>
            <a:ext cx="7407360" cy="475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mene mikroprose: intel 4004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700360" y="1079640"/>
            <a:ext cx="3452760" cy="521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uring machine: lihtne teoreetiline 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an Turingi idee, milline võiks olla lihtne universaalne arvuti: suudaks arvutada/järeldada kõike!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ringi tees: kõike, mida üldse saab mingi masinaga arvutada/järeldada, saab ka Turingi masinaga arvut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uring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en.wikipedia.org/wiki/Alan_Turi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www.radiolab.org/story/193037-turing-problem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7" name="Picture 7" descr="http://math2033.uark.edu/wiki/images/6/6d/Turing-machine.jpg"/>
          <p:cNvPicPr/>
          <p:nvPr/>
        </p:nvPicPr>
        <p:blipFill>
          <a:blip r:embed="rId1"/>
          <a:stretch/>
        </p:blipFill>
        <p:spPr>
          <a:xfrm>
            <a:off x="1619280" y="380880"/>
            <a:ext cx="5943600" cy="2853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1523880" y="5867280"/>
            <a:ext cx="6858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http://www.youtube.com/watch?v=cYw2ewoO6c4&amp;NR=1https://www.youtube.com/watch?v=40DkJ9vt5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https://www.youtube.com/watch?v=ivPv_kaYuw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9" descr="http://www.legoturingmachine.org/images/global.jpg"/>
          <p:cNvPicPr/>
          <p:nvPr/>
        </p:nvPicPr>
        <p:blipFill>
          <a:blip r:embed="rId2"/>
          <a:stretch/>
        </p:blipFill>
        <p:spPr>
          <a:xfrm>
            <a:off x="380880" y="3294000"/>
            <a:ext cx="3305160" cy="2479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https://encrypted-tbn0.gstatic.com/images?q=tbn:ANd9GcTISCKcQXibQWulTUd-DSxwFv_Q0_P-PY-bKrxcnjStKkZD02JohRxYWmUI"/>
          <p:cNvPicPr/>
          <p:nvPr/>
        </p:nvPicPr>
        <p:blipFill>
          <a:blip r:embed="rId3"/>
          <a:stretch/>
        </p:blipFill>
        <p:spPr>
          <a:xfrm>
            <a:off x="4519440" y="3733920"/>
            <a:ext cx="387684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lgub, et kõiki täpselt formuleeritud, selgeid, algoritmilisi probleeme ei saa garanteeritult algoritmiga lahend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alternatiivid sel juhul on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ternatiiv ü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pime sellega, et mõnes olukorras ei õnnestu vastust lei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ternatiiv ka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ime vahel juhuslikult, ehk: teeme vahel vig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eesmärk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a kokkusurutud ülevaade infotehnoloogiast terviku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a ajalooline ülevaade IT teooria, tehnoloogia ja äri areng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tvustada edaspidiseid teemasid/kursuseid stuudiumi vältel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6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ektne arvutusmasi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2160720" y="1619280"/>
            <a:ext cx="4319280" cy="457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five types of information that are the only types the computer commonly manipulat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isual (picture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umeric (number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aracter (text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udio (sound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structions (program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fore the computer can use any type of information, it must be stored in the computer’s memory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blem: How is information stored within the computer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is stored in numerical form within the comput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dern computers work in a system of numbers called binary numb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number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milar to familiar decimal syste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ses only two symbols: 0 and 1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choice of using binary numbers is dictated by cost and reliabilit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circuit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ctronic circuits are cheapest and most reliable if they only assume two states or condition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se binary circuits have only two states, ON or OFF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51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numbers use only two symbols: 0 and 1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ow can more than two possibilities be represented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three light system can have up to eight combinations. Each combination can represent a cod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4835520" y="1898640"/>
            <a:ext cx="3851280" cy="389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inary equivalents of the numerals 0 to 7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2496240" y="2556000"/>
            <a:ext cx="1553400" cy="3386520"/>
            <a:chOff x="2496240" y="2556000"/>
            <a:chExt cx="1553400" cy="3386520"/>
          </a:xfrm>
        </p:grpSpPr>
        <p:sp>
          <p:nvSpPr>
            <p:cNvPr id="192" name="AutoShape 4"/>
            <p:cNvSpPr/>
            <p:nvPr/>
          </p:nvSpPr>
          <p:spPr>
            <a:xfrm>
              <a:off x="2498760" y="2556000"/>
              <a:ext cx="1550880" cy="3373200"/>
            </a:xfrm>
            <a:custGeom>
              <a:avLst/>
              <a:gdLst>
                <a:gd name="textAreaLeft" fmla="*/ 360 w 1550880"/>
                <a:gd name="textAreaRight" fmla="*/ 1550520 w 1550880"/>
                <a:gd name="textAreaTop" fmla="*/ 360 h 3373200"/>
                <a:gd name="textAreaBottom" fmla="*/ 3372840 h 3373200"/>
              </a:gdLst>
              <a:ahLst/>
              <a:rect l="textAreaLeft" t="textAreaTop" r="textAreaRight" b="textAreaBottom"/>
              <a:pathLst>
                <a:path w="21600" h="46975">
                  <a:moveTo>
                    <a:pt x="22" y="0"/>
                  </a:moveTo>
                  <a:arcTo wR="22" hR="22" stAng="16200000" swAng="-5400000"/>
                  <a:lnTo>
                    <a:pt x="0" y="46953"/>
                  </a:lnTo>
                  <a:arcTo wR="22" hR="22" stAng="10800000" swAng="-5400000"/>
                  <a:lnTo>
                    <a:pt x="21578" y="46975"/>
                  </a:lnTo>
                  <a:arcTo wR="22" hR="22" stAng="5400000" swAng="-5400000"/>
                  <a:lnTo>
                    <a:pt x="21600" y="22"/>
                  </a:lnTo>
                  <a:arcTo wR="22" hR="2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Group 5"/>
            <p:cNvGrpSpPr/>
            <p:nvPr/>
          </p:nvGrpSpPr>
          <p:grpSpPr>
            <a:xfrm>
              <a:off x="2496240" y="2556000"/>
              <a:ext cx="1553400" cy="3386520"/>
              <a:chOff x="2496240" y="2556000"/>
              <a:chExt cx="1553400" cy="3386520"/>
            </a:xfrm>
          </p:grpSpPr>
          <p:sp>
            <p:nvSpPr>
              <p:cNvPr id="194" name="AutoShape 6"/>
              <p:cNvSpPr/>
              <p:nvPr/>
            </p:nvSpPr>
            <p:spPr>
              <a:xfrm>
                <a:off x="2498760" y="2556000"/>
                <a:ext cx="1550880" cy="3373200"/>
              </a:xfrm>
              <a:custGeom>
                <a:avLst/>
                <a:gdLst>
                  <a:gd name="textAreaLeft" fmla="*/ 360 w 1550880"/>
                  <a:gd name="textAreaRight" fmla="*/ 1550520 w 1550880"/>
                  <a:gd name="textAreaTop" fmla="*/ 360 h 3373200"/>
                  <a:gd name="textAreaBottom" fmla="*/ 3372840 h 3373200"/>
                </a:gdLst>
                <a:ahLst/>
                <a:rect l="textAreaLeft" t="textAreaTop" r="textAreaRight" b="textAreaBottom"/>
                <a:pathLst>
                  <a:path w="21600" h="46975">
                    <a:moveTo>
                      <a:pt x="22" y="0"/>
                    </a:moveTo>
                    <a:arcTo wR="22" hR="22" stAng="16200000" swAng="-5400000"/>
                    <a:lnTo>
                      <a:pt x="0" y="46953"/>
                    </a:lnTo>
                    <a:arcTo wR="22" hR="22" stAng="10800000" swAng="-5400000"/>
                    <a:lnTo>
                      <a:pt x="21578" y="4697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AutoShape 7"/>
              <p:cNvSpPr/>
              <p:nvPr/>
            </p:nvSpPr>
            <p:spPr>
              <a:xfrm>
                <a:off x="2496240" y="2556000"/>
                <a:ext cx="1553040" cy="3386520"/>
              </a:xfrm>
              <a:custGeom>
                <a:avLst/>
                <a:gdLst>
                  <a:gd name="textAreaLeft" fmla="*/ 360 w 1553040"/>
                  <a:gd name="textAreaRight" fmla="*/ 1552680 w 1553040"/>
                  <a:gd name="textAreaTop" fmla="*/ 360 h 3386520"/>
                  <a:gd name="textAreaBottom" fmla="*/ 3386160 h 3386520"/>
                </a:gdLst>
                <a:ahLst/>
                <a:rect l="textAreaLeft" t="textAreaTop" r="textAreaRight" b="textAreaBottom"/>
                <a:pathLst>
                  <a:path w="21600" h="47095">
                    <a:moveTo>
                      <a:pt x="22" y="0"/>
                    </a:moveTo>
                    <a:arcTo wR="22" hR="22" stAng="16200000" swAng="-5400000"/>
                    <a:lnTo>
                      <a:pt x="0" y="47073"/>
                    </a:lnTo>
                    <a:arcTo wR="22" hR="22" stAng="10800000" swAng="-5400000"/>
                    <a:lnTo>
                      <a:pt x="21578" y="4709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Group 8"/>
          <p:cNvGrpSpPr/>
          <p:nvPr/>
        </p:nvGrpSpPr>
        <p:grpSpPr>
          <a:xfrm>
            <a:off x="4720680" y="3809880"/>
            <a:ext cx="2208240" cy="460440"/>
            <a:chOff x="4720680" y="3809880"/>
            <a:chExt cx="2208240" cy="460440"/>
          </a:xfrm>
        </p:grpSpPr>
        <p:sp>
          <p:nvSpPr>
            <p:cNvPr id="197" name="AutoShape 9"/>
            <p:cNvSpPr/>
            <p:nvPr/>
          </p:nvSpPr>
          <p:spPr>
            <a:xfrm>
              <a:off x="4724280" y="3809880"/>
              <a:ext cx="220032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8" name="Group 10"/>
            <p:cNvGrpSpPr/>
            <p:nvPr/>
          </p:nvGrpSpPr>
          <p:grpSpPr>
            <a:xfrm>
              <a:off x="4720680" y="3809880"/>
              <a:ext cx="2208240" cy="460440"/>
              <a:chOff x="4720680" y="3809880"/>
              <a:chExt cx="2208240" cy="46044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724280" y="3809880"/>
                <a:ext cx="220032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AutoShape 12"/>
              <p:cNvSpPr/>
              <p:nvPr/>
            </p:nvSpPr>
            <p:spPr>
              <a:xfrm>
                <a:off x="4720680" y="3809880"/>
                <a:ext cx="220824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inary numeral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Freeform 13"/>
          <p:cNvSpPr/>
          <p:nvPr/>
        </p:nvSpPr>
        <p:spPr>
          <a:xfrm>
            <a:off x="4114800" y="2666880"/>
            <a:ext cx="380880" cy="2820960"/>
          </a:xfrm>
          <a:custGeom>
            <a:avLst/>
            <a:gdLst/>
            <a:ahLst/>
            <a:rect l="l" t="t" r="r" b="b"/>
            <a:pathLst>
              <a:path w="1059" h="7836">
                <a:moveTo>
                  <a:pt x="0" y="0"/>
                </a:moveTo>
                <a:cubicBezTo>
                  <a:pt x="263" y="0"/>
                  <a:pt x="528" y="326"/>
                  <a:pt x="528" y="652"/>
                </a:cubicBezTo>
                <a:lnTo>
                  <a:pt x="528" y="3264"/>
                </a:lnTo>
                <a:cubicBezTo>
                  <a:pt x="528" y="3591"/>
                  <a:pt x="793" y="3917"/>
                  <a:pt x="1058" y="3917"/>
                </a:cubicBezTo>
                <a:cubicBezTo>
                  <a:pt x="793" y="3917"/>
                  <a:pt x="528" y="4243"/>
                  <a:pt x="528" y="4570"/>
                </a:cubicBezTo>
                <a:lnTo>
                  <a:pt x="528" y="7182"/>
                </a:lnTo>
                <a:cubicBezTo>
                  <a:pt x="528" y="7508"/>
                  <a:pt x="263" y="7835"/>
                  <a:pt x="0" y="78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cimal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yste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990720" y="3352680"/>
            <a:ext cx="7678440" cy="1191960"/>
            <a:chOff x="990720" y="3352680"/>
            <a:chExt cx="7678440" cy="1191960"/>
          </a:xfrm>
        </p:grpSpPr>
        <p:sp>
          <p:nvSpPr>
            <p:cNvPr id="205" name="AutoShape 4"/>
            <p:cNvSpPr/>
            <p:nvPr/>
          </p:nvSpPr>
          <p:spPr>
            <a:xfrm>
              <a:off x="990720" y="3352680"/>
              <a:ext cx="7678440" cy="1182960"/>
            </a:xfrm>
            <a:prstGeom prst="roundRect">
              <a:avLst>
                <a:gd name="adj" fmla="val 1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6" name="Group 5"/>
            <p:cNvGrpSpPr/>
            <p:nvPr/>
          </p:nvGrpSpPr>
          <p:grpSpPr>
            <a:xfrm>
              <a:off x="990720" y="3352680"/>
              <a:ext cx="7678440" cy="1191960"/>
              <a:chOff x="990720" y="3352680"/>
              <a:chExt cx="7678440" cy="1191960"/>
            </a:xfrm>
          </p:grpSpPr>
          <p:sp>
            <p:nvSpPr>
              <p:cNvPr id="207" name="AutoShape 6"/>
              <p:cNvSpPr/>
              <p:nvPr/>
            </p:nvSpPr>
            <p:spPr>
              <a:xfrm>
                <a:off x="990720" y="3352680"/>
                <a:ext cx="7678440" cy="1182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AutoShape 7"/>
              <p:cNvSpPr/>
              <p:nvPr/>
            </p:nvSpPr>
            <p:spPr>
              <a:xfrm>
                <a:off x="991800" y="3352680"/>
                <a:ext cx="7639920" cy="1191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1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3      1       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 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2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100) + (1x10) + (2x1)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300     +    10    +     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Group 8"/>
          <p:cNvGrpSpPr/>
          <p:nvPr/>
        </p:nvGrpSpPr>
        <p:grpSpPr>
          <a:xfrm>
            <a:off x="2662920" y="2514600"/>
            <a:ext cx="1910160" cy="460440"/>
            <a:chOff x="2662920" y="2514600"/>
            <a:chExt cx="1910160" cy="460440"/>
          </a:xfrm>
        </p:grpSpPr>
        <p:sp>
          <p:nvSpPr>
            <p:cNvPr id="210" name="AutoShape 9"/>
            <p:cNvSpPr/>
            <p:nvPr/>
          </p:nvSpPr>
          <p:spPr>
            <a:xfrm>
              <a:off x="2666520" y="2514600"/>
              <a:ext cx="190656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1" name="Group 10"/>
            <p:cNvGrpSpPr/>
            <p:nvPr/>
          </p:nvGrpSpPr>
          <p:grpSpPr>
            <a:xfrm>
              <a:off x="2662920" y="2514600"/>
              <a:ext cx="1909800" cy="460440"/>
              <a:chOff x="2662920" y="2514600"/>
              <a:chExt cx="1909800" cy="460440"/>
            </a:xfrm>
          </p:grpSpPr>
          <p:sp>
            <p:nvSpPr>
              <p:cNvPr id="212" name="AutoShape 11"/>
              <p:cNvSpPr/>
              <p:nvPr/>
            </p:nvSpPr>
            <p:spPr>
              <a:xfrm>
                <a:off x="2666520" y="2514600"/>
                <a:ext cx="190476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AutoShape 12"/>
              <p:cNvSpPr/>
              <p:nvPr/>
            </p:nvSpPr>
            <p:spPr>
              <a:xfrm>
                <a:off x="2662920" y="2514600"/>
                <a:ext cx="190980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s   10s   1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Line 13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14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15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1"/>
          <p:cNvSpPr/>
          <p:nvPr/>
        </p:nvSpPr>
        <p:spPr>
          <a:xfrm>
            <a:off x="2819520" y="5105520"/>
            <a:ext cx="3200400" cy="609480"/>
          </a:xfrm>
          <a:prstGeom prst="roundRect">
            <a:avLst>
              <a:gd name="adj" fmla="val 259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syste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990360" y="3352680"/>
            <a:ext cx="7221600" cy="2390040"/>
            <a:chOff x="990360" y="3352680"/>
            <a:chExt cx="7221600" cy="2390040"/>
          </a:xfrm>
        </p:grpSpPr>
        <p:sp>
          <p:nvSpPr>
            <p:cNvPr id="221" name="AutoShape 5"/>
            <p:cNvSpPr/>
            <p:nvPr/>
          </p:nvSpPr>
          <p:spPr>
            <a:xfrm>
              <a:off x="990720" y="3352680"/>
              <a:ext cx="7221240" cy="22780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" name="Group 6"/>
            <p:cNvGrpSpPr/>
            <p:nvPr/>
          </p:nvGrpSpPr>
          <p:grpSpPr>
            <a:xfrm>
              <a:off x="990360" y="3352680"/>
              <a:ext cx="7221600" cy="2390040"/>
              <a:chOff x="990360" y="3352680"/>
              <a:chExt cx="7221600" cy="2390040"/>
            </a:xfrm>
          </p:grpSpPr>
          <p:sp>
            <p:nvSpPr>
              <p:cNvPr id="223" name="AutoShape 7"/>
              <p:cNvSpPr/>
              <p:nvPr/>
            </p:nvSpPr>
            <p:spPr>
              <a:xfrm>
                <a:off x="990720" y="3352680"/>
                <a:ext cx="7221240" cy="227808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AutoShape 8"/>
              <p:cNvSpPr/>
              <p:nvPr/>
            </p:nvSpPr>
            <p:spPr>
              <a:xfrm>
                <a:off x="990360" y="3352680"/>
                <a:ext cx="7182720" cy="239004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1      0       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1x 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0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(1x4) +   (0x2) + (1x1)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4     +    0    +     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5 in decim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" name="Group 9"/>
          <p:cNvGrpSpPr/>
          <p:nvPr/>
        </p:nvGrpSpPr>
        <p:grpSpPr>
          <a:xfrm>
            <a:off x="2664720" y="2514600"/>
            <a:ext cx="1834200" cy="460440"/>
            <a:chOff x="2664720" y="2514600"/>
            <a:chExt cx="1834200" cy="460440"/>
          </a:xfrm>
        </p:grpSpPr>
        <p:sp>
          <p:nvSpPr>
            <p:cNvPr id="226" name="AutoShape 10"/>
            <p:cNvSpPr/>
            <p:nvPr/>
          </p:nvSpPr>
          <p:spPr>
            <a:xfrm>
              <a:off x="2666880" y="2514600"/>
              <a:ext cx="183204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Group 11"/>
            <p:cNvGrpSpPr/>
            <p:nvPr/>
          </p:nvGrpSpPr>
          <p:grpSpPr>
            <a:xfrm>
              <a:off x="2664720" y="2514600"/>
              <a:ext cx="1834200" cy="460440"/>
              <a:chOff x="2664720" y="2514600"/>
              <a:chExt cx="1834200" cy="460440"/>
            </a:xfrm>
          </p:grpSpPr>
          <p:sp>
            <p:nvSpPr>
              <p:cNvPr id="228" name="AutoShape 12"/>
              <p:cNvSpPr/>
              <p:nvPr/>
            </p:nvSpPr>
            <p:spPr>
              <a:xfrm>
                <a:off x="2666880" y="2514600"/>
                <a:ext cx="183204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AutoShape 13"/>
              <p:cNvSpPr/>
              <p:nvPr/>
            </p:nvSpPr>
            <p:spPr>
              <a:xfrm>
                <a:off x="2664720" y="2514600"/>
                <a:ext cx="183348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s      2s     1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Line 14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15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late 10011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nto a decimal numb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835920" y="2438280"/>
            <a:ext cx="2130480" cy="1009080"/>
            <a:chOff x="835920" y="2438280"/>
            <a:chExt cx="2130480" cy="1009080"/>
          </a:xfrm>
        </p:grpSpPr>
        <p:sp>
          <p:nvSpPr>
            <p:cNvPr id="236" name="AutoShape 4"/>
            <p:cNvSpPr/>
            <p:nvPr/>
          </p:nvSpPr>
          <p:spPr>
            <a:xfrm>
              <a:off x="838080" y="2438280"/>
              <a:ext cx="2122560" cy="100188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7" name="Group 5"/>
            <p:cNvGrpSpPr/>
            <p:nvPr/>
          </p:nvGrpSpPr>
          <p:grpSpPr>
            <a:xfrm>
              <a:off x="835920" y="2438280"/>
              <a:ext cx="2130480" cy="1009080"/>
              <a:chOff x="835920" y="2438280"/>
              <a:chExt cx="2130480" cy="1009080"/>
            </a:xfrm>
          </p:grpSpPr>
          <p:sp>
            <p:nvSpPr>
              <p:cNvPr id="238" name="AutoShape 6"/>
              <p:cNvSpPr/>
              <p:nvPr/>
            </p:nvSpPr>
            <p:spPr>
              <a:xfrm>
                <a:off x="838080" y="2438280"/>
                <a:ext cx="2122560" cy="10018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AutoShape 7"/>
              <p:cNvSpPr/>
              <p:nvPr/>
            </p:nvSpPr>
            <p:spPr>
              <a:xfrm>
                <a:off x="835920" y="2438280"/>
                <a:ext cx="213048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the base tw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umerals under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value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Group 8"/>
          <p:cNvGrpSpPr/>
          <p:nvPr/>
        </p:nvGrpSpPr>
        <p:grpSpPr>
          <a:xfrm>
            <a:off x="759600" y="3511440"/>
            <a:ext cx="2226600" cy="993960"/>
            <a:chOff x="759600" y="3511440"/>
            <a:chExt cx="2226600" cy="993960"/>
          </a:xfrm>
        </p:grpSpPr>
        <p:sp>
          <p:nvSpPr>
            <p:cNvPr id="241" name="AutoShape 9"/>
            <p:cNvSpPr/>
            <p:nvPr/>
          </p:nvSpPr>
          <p:spPr>
            <a:xfrm>
              <a:off x="762120" y="3511440"/>
              <a:ext cx="2224080" cy="99396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Group 10"/>
            <p:cNvGrpSpPr/>
            <p:nvPr/>
          </p:nvGrpSpPr>
          <p:grpSpPr>
            <a:xfrm>
              <a:off x="759600" y="3511440"/>
              <a:ext cx="2226600" cy="993960"/>
              <a:chOff x="759600" y="3511440"/>
              <a:chExt cx="2226600" cy="993960"/>
            </a:xfrm>
          </p:grpSpPr>
          <p:sp>
            <p:nvSpPr>
              <p:cNvPr id="243" name="AutoShape 11"/>
              <p:cNvSpPr/>
              <p:nvPr/>
            </p:nvSpPr>
            <p:spPr>
              <a:xfrm>
                <a:off x="762120" y="3511440"/>
                <a:ext cx="2224080" cy="99396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AutoShape 12"/>
              <p:cNvSpPr/>
              <p:nvPr/>
            </p:nvSpPr>
            <p:spPr>
              <a:xfrm>
                <a:off x="759600" y="351144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AutoShape 13"/>
          <p:cNvSpPr/>
          <p:nvPr/>
        </p:nvSpPr>
        <p:spPr>
          <a:xfrm>
            <a:off x="762120" y="3505320"/>
            <a:ext cx="2209680" cy="99036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762120" y="388620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762120" y="41911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6"/>
          <p:cNvSpPr/>
          <p:nvPr/>
        </p:nvSpPr>
        <p:spPr>
          <a:xfrm>
            <a:off x="11430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17"/>
          <p:cNvSpPr/>
          <p:nvPr/>
        </p:nvSpPr>
        <p:spPr>
          <a:xfrm>
            <a:off x="16002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8"/>
          <p:cNvSpPr/>
          <p:nvPr/>
        </p:nvSpPr>
        <p:spPr>
          <a:xfrm>
            <a:off x="20574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9"/>
          <p:cNvSpPr/>
          <p:nvPr/>
        </p:nvSpPr>
        <p:spPr>
          <a:xfrm>
            <a:off x="25146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Group 20"/>
          <p:cNvGrpSpPr/>
          <p:nvPr/>
        </p:nvGrpSpPr>
        <p:grpSpPr>
          <a:xfrm>
            <a:off x="3733920" y="2438280"/>
            <a:ext cx="2224440" cy="734760"/>
            <a:chOff x="3733920" y="2438280"/>
            <a:chExt cx="2224440" cy="734760"/>
          </a:xfrm>
        </p:grpSpPr>
        <p:sp>
          <p:nvSpPr>
            <p:cNvPr id="253" name="AutoShape 21"/>
            <p:cNvSpPr/>
            <p:nvPr/>
          </p:nvSpPr>
          <p:spPr>
            <a:xfrm>
              <a:off x="3733920" y="2438280"/>
              <a:ext cx="2211120" cy="72720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4" name="Group 22"/>
            <p:cNvGrpSpPr/>
            <p:nvPr/>
          </p:nvGrpSpPr>
          <p:grpSpPr>
            <a:xfrm>
              <a:off x="3733920" y="2438280"/>
              <a:ext cx="2224440" cy="734760"/>
              <a:chOff x="3733920" y="2438280"/>
              <a:chExt cx="2224440" cy="734760"/>
            </a:xfrm>
          </p:grpSpPr>
          <p:sp>
            <p:nvSpPr>
              <p:cNvPr id="255" name="AutoShape 23"/>
              <p:cNvSpPr/>
              <p:nvPr/>
            </p:nvSpPr>
            <p:spPr>
              <a:xfrm>
                <a:off x="3733920" y="2438280"/>
                <a:ext cx="2209680" cy="72720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AutoShape 24"/>
              <p:cNvSpPr/>
              <p:nvPr/>
            </p:nvSpPr>
            <p:spPr>
              <a:xfrm>
                <a:off x="3735000" y="2438280"/>
                <a:ext cx="2223360" cy="73476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Multiply through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by the place value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Group 25"/>
          <p:cNvGrpSpPr/>
          <p:nvPr/>
        </p:nvGrpSpPr>
        <p:grpSpPr>
          <a:xfrm>
            <a:off x="3656880" y="3359160"/>
            <a:ext cx="2224800" cy="993600"/>
            <a:chOff x="3656880" y="3359160"/>
            <a:chExt cx="2224800" cy="993600"/>
          </a:xfrm>
        </p:grpSpPr>
        <p:sp>
          <p:nvSpPr>
            <p:cNvPr id="258" name="AutoShape 26"/>
            <p:cNvSpPr/>
            <p:nvPr/>
          </p:nvSpPr>
          <p:spPr>
            <a:xfrm>
              <a:off x="3657600" y="3359160"/>
              <a:ext cx="2224080" cy="99360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9" name="Group 27"/>
            <p:cNvGrpSpPr/>
            <p:nvPr/>
          </p:nvGrpSpPr>
          <p:grpSpPr>
            <a:xfrm>
              <a:off x="3656880" y="3359160"/>
              <a:ext cx="2224800" cy="993600"/>
              <a:chOff x="3656880" y="3359160"/>
              <a:chExt cx="2224800" cy="993600"/>
            </a:xfrm>
          </p:grpSpPr>
          <p:sp>
            <p:nvSpPr>
              <p:cNvPr id="260" name="AutoShape 28"/>
              <p:cNvSpPr/>
              <p:nvPr/>
            </p:nvSpPr>
            <p:spPr>
              <a:xfrm>
                <a:off x="3657600" y="3359160"/>
                <a:ext cx="2224080" cy="99360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AutoShape 29"/>
              <p:cNvSpPr/>
              <p:nvPr/>
            </p:nvSpPr>
            <p:spPr>
              <a:xfrm>
                <a:off x="3656880" y="335916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AutoShape 30"/>
          <p:cNvSpPr/>
          <p:nvPr/>
        </p:nvSpPr>
        <p:spPr>
          <a:xfrm>
            <a:off x="3657600" y="3352680"/>
            <a:ext cx="2209680" cy="99072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Line 31"/>
          <p:cNvSpPr/>
          <p:nvPr/>
        </p:nvSpPr>
        <p:spPr>
          <a:xfrm>
            <a:off x="3657600" y="37339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32"/>
          <p:cNvSpPr/>
          <p:nvPr/>
        </p:nvSpPr>
        <p:spPr>
          <a:xfrm>
            <a:off x="3657600" y="4038480"/>
            <a:ext cx="2209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33"/>
          <p:cNvSpPr/>
          <p:nvPr/>
        </p:nvSpPr>
        <p:spPr>
          <a:xfrm>
            <a:off x="40384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34"/>
          <p:cNvSpPr/>
          <p:nvPr/>
        </p:nvSpPr>
        <p:spPr>
          <a:xfrm>
            <a:off x="44956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35"/>
          <p:cNvSpPr/>
          <p:nvPr/>
        </p:nvSpPr>
        <p:spPr>
          <a:xfrm>
            <a:off x="49528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36"/>
          <p:cNvSpPr/>
          <p:nvPr/>
        </p:nvSpPr>
        <p:spPr>
          <a:xfrm>
            <a:off x="54100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37"/>
          <p:cNvSpPr/>
          <p:nvPr/>
        </p:nvSpPr>
        <p:spPr>
          <a:xfrm>
            <a:off x="5410080" y="434340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38"/>
          <p:cNvSpPr/>
          <p:nvPr/>
        </p:nvSpPr>
        <p:spPr>
          <a:xfrm>
            <a:off x="6095880" y="48769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39"/>
          <p:cNvSpPr/>
          <p:nvPr/>
        </p:nvSpPr>
        <p:spPr>
          <a:xfrm>
            <a:off x="4952880" y="43434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40"/>
          <p:cNvSpPr/>
          <p:nvPr/>
        </p:nvSpPr>
        <p:spPr>
          <a:xfrm>
            <a:off x="6095880" y="5181480"/>
            <a:ext cx="304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41"/>
          <p:cNvSpPr/>
          <p:nvPr/>
        </p:nvSpPr>
        <p:spPr>
          <a:xfrm>
            <a:off x="4495680" y="434340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42"/>
          <p:cNvSpPr/>
          <p:nvPr/>
        </p:nvSpPr>
        <p:spPr>
          <a:xfrm>
            <a:off x="6172200" y="55627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43"/>
          <p:cNvSpPr/>
          <p:nvPr/>
        </p:nvSpPr>
        <p:spPr>
          <a:xfrm>
            <a:off x="4038480" y="4343400"/>
            <a:ext cx="213372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44"/>
          <p:cNvSpPr/>
          <p:nvPr/>
        </p:nvSpPr>
        <p:spPr>
          <a:xfrm>
            <a:off x="6172200" y="5867280"/>
            <a:ext cx="228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45"/>
          <p:cNvSpPr/>
          <p:nvPr/>
        </p:nvSpPr>
        <p:spPr>
          <a:xfrm>
            <a:off x="3657600" y="4343400"/>
            <a:ext cx="251460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46"/>
          <p:cNvSpPr/>
          <p:nvPr/>
        </p:nvSpPr>
        <p:spPr>
          <a:xfrm>
            <a:off x="6172200" y="62485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Group 47"/>
          <p:cNvGrpSpPr/>
          <p:nvPr/>
        </p:nvGrpSpPr>
        <p:grpSpPr>
          <a:xfrm>
            <a:off x="6474960" y="2438280"/>
            <a:ext cx="1955160" cy="1009080"/>
            <a:chOff x="6474960" y="2438280"/>
            <a:chExt cx="1955160" cy="1009080"/>
          </a:xfrm>
        </p:grpSpPr>
        <p:sp>
          <p:nvSpPr>
            <p:cNvPr id="280" name="AutoShape 48"/>
            <p:cNvSpPr/>
            <p:nvPr/>
          </p:nvSpPr>
          <p:spPr>
            <a:xfrm>
              <a:off x="6477120" y="2438280"/>
              <a:ext cx="1944720" cy="100188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1" name="Group 49"/>
            <p:cNvGrpSpPr/>
            <p:nvPr/>
          </p:nvGrpSpPr>
          <p:grpSpPr>
            <a:xfrm>
              <a:off x="6474960" y="2438280"/>
              <a:ext cx="1955160" cy="1009080"/>
              <a:chOff x="6474960" y="2438280"/>
              <a:chExt cx="1955160" cy="1009080"/>
            </a:xfrm>
          </p:grpSpPr>
          <p:sp>
            <p:nvSpPr>
              <p:cNvPr id="282" name="AutoShape 50"/>
              <p:cNvSpPr/>
              <p:nvPr/>
            </p:nvSpPr>
            <p:spPr>
              <a:xfrm>
                <a:off x="6477120" y="2438280"/>
                <a:ext cx="1944720" cy="10018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AutoShape 51"/>
              <p:cNvSpPr/>
              <p:nvPr/>
            </p:nvSpPr>
            <p:spPr>
              <a:xfrm>
                <a:off x="6474960" y="2438280"/>
                <a:ext cx="195516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Add up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column for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decimal number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4" name="Group 52"/>
          <p:cNvGrpSpPr/>
          <p:nvPr/>
        </p:nvGrpSpPr>
        <p:grpSpPr>
          <a:xfrm>
            <a:off x="5421600" y="4041720"/>
            <a:ext cx="1077480" cy="1074600"/>
            <a:chOff x="5421600" y="4041720"/>
            <a:chExt cx="1077480" cy="1074600"/>
          </a:xfrm>
        </p:grpSpPr>
        <p:sp>
          <p:nvSpPr>
            <p:cNvPr id="285" name="AutoShape 53"/>
            <p:cNvSpPr/>
            <p:nvPr/>
          </p:nvSpPr>
          <p:spPr>
            <a:xfrm rot="1980000">
              <a:off x="5722920" y="4413240"/>
              <a:ext cx="484200" cy="3333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Group 54"/>
            <p:cNvGrpSpPr/>
            <p:nvPr/>
          </p:nvGrpSpPr>
          <p:grpSpPr>
            <a:xfrm>
              <a:off x="5421600" y="4041720"/>
              <a:ext cx="1077480" cy="1074600"/>
              <a:chOff x="5421600" y="4041720"/>
              <a:chExt cx="1077480" cy="1074600"/>
            </a:xfrm>
          </p:grpSpPr>
          <p:sp>
            <p:nvSpPr>
              <p:cNvPr id="287" name="AutoShape 55"/>
              <p:cNvSpPr/>
              <p:nvPr/>
            </p:nvSpPr>
            <p:spPr>
              <a:xfrm rot="1980000">
                <a:off x="5568480" y="4192560"/>
                <a:ext cx="783000" cy="77292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AutoShape 56"/>
              <p:cNvSpPr/>
              <p:nvPr/>
            </p:nvSpPr>
            <p:spPr>
              <a:xfrm rot="1980000">
                <a:off x="5826960" y="42364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9" name="Group 57"/>
          <p:cNvGrpSpPr/>
          <p:nvPr/>
        </p:nvGrpSpPr>
        <p:grpSpPr>
          <a:xfrm>
            <a:off x="4926600" y="4031280"/>
            <a:ext cx="1110240" cy="1114560"/>
            <a:chOff x="4926600" y="4031280"/>
            <a:chExt cx="1110240" cy="1114560"/>
          </a:xfrm>
        </p:grpSpPr>
        <p:sp>
          <p:nvSpPr>
            <p:cNvPr id="290" name="AutoShape 58"/>
            <p:cNvSpPr/>
            <p:nvPr/>
          </p:nvSpPr>
          <p:spPr>
            <a:xfrm rot="2400000">
              <a:off x="5260680" y="4417920"/>
              <a:ext cx="48564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1" name="Group 59"/>
            <p:cNvGrpSpPr/>
            <p:nvPr/>
          </p:nvGrpSpPr>
          <p:grpSpPr>
            <a:xfrm>
              <a:off x="4926600" y="4031280"/>
              <a:ext cx="1110240" cy="1114560"/>
              <a:chOff x="4926600" y="4031280"/>
              <a:chExt cx="1110240" cy="1114560"/>
            </a:xfrm>
          </p:grpSpPr>
          <p:sp>
            <p:nvSpPr>
              <p:cNvPr id="292" name="AutoShape 60"/>
              <p:cNvSpPr/>
              <p:nvPr/>
            </p:nvSpPr>
            <p:spPr>
              <a:xfrm rot="2400000">
                <a:off x="5095800" y="4184640"/>
                <a:ext cx="771480" cy="807840"/>
              </a:xfrm>
              <a:custGeom>
                <a:avLst/>
                <a:gdLst>
                  <a:gd name="textAreaLeft" fmla="*/ 720 w 771480"/>
                  <a:gd name="textAreaRight" fmla="*/ 770760 w 771480"/>
                  <a:gd name="textAreaTop" fmla="*/ 720 h 807840"/>
                  <a:gd name="textAreaBottom" fmla="*/ 807120 h 807840"/>
                </a:gdLst>
                <a:ahLst/>
                <a:rect l="textAreaLeft" t="textAreaTop" r="textAreaRight" b="textAreaBottom"/>
                <a:pathLst>
                  <a:path w="21600" h="22618">
                    <a:moveTo>
                      <a:pt x="101" y="0"/>
                    </a:moveTo>
                    <a:arcTo wR="101" hR="101" stAng="16200000" swAng="-5400000"/>
                    <a:lnTo>
                      <a:pt x="0" y="22517"/>
                    </a:lnTo>
                    <a:arcTo wR="101" hR="101" stAng="10800000" swAng="-5400000"/>
                    <a:lnTo>
                      <a:pt x="21499" y="22618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AutoShape 61"/>
              <p:cNvSpPr/>
              <p:nvPr/>
            </p:nvSpPr>
            <p:spPr>
              <a:xfrm rot="2400000">
                <a:off x="5390280" y="422640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Group 62"/>
          <p:cNvGrpSpPr/>
          <p:nvPr/>
        </p:nvGrpSpPr>
        <p:grpSpPr>
          <a:xfrm>
            <a:off x="4478760" y="4021920"/>
            <a:ext cx="1112760" cy="1116000"/>
            <a:chOff x="4478760" y="4021920"/>
            <a:chExt cx="1112760" cy="1116000"/>
          </a:xfrm>
        </p:grpSpPr>
        <p:sp>
          <p:nvSpPr>
            <p:cNvPr id="295" name="AutoShape 63"/>
            <p:cNvSpPr/>
            <p:nvPr/>
          </p:nvSpPr>
          <p:spPr>
            <a:xfrm rot="2280000">
              <a:off x="4807080" y="4411440"/>
              <a:ext cx="4842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" name="Group 64"/>
            <p:cNvGrpSpPr/>
            <p:nvPr/>
          </p:nvGrpSpPr>
          <p:grpSpPr>
            <a:xfrm>
              <a:off x="4478760" y="4021920"/>
              <a:ext cx="1112760" cy="1116000"/>
              <a:chOff x="4478760" y="4021920"/>
              <a:chExt cx="1112760" cy="1116000"/>
            </a:xfrm>
          </p:grpSpPr>
          <p:sp>
            <p:nvSpPr>
              <p:cNvPr id="297" name="AutoShape 65"/>
              <p:cNvSpPr/>
              <p:nvPr/>
            </p:nvSpPr>
            <p:spPr>
              <a:xfrm rot="2280000">
                <a:off x="4642920" y="4178160"/>
                <a:ext cx="784440" cy="803160"/>
              </a:xfrm>
              <a:custGeom>
                <a:avLst/>
                <a:gdLst>
                  <a:gd name="textAreaLeft" fmla="*/ 720 w 784440"/>
                  <a:gd name="textAreaRight" fmla="*/ 783720 w 784440"/>
                  <a:gd name="textAreaTop" fmla="*/ 720 h 803160"/>
                  <a:gd name="textAreaBottom" fmla="*/ 802440 h 803160"/>
                </a:gdLst>
                <a:ahLst/>
                <a:rect l="textAreaLeft" t="textAreaTop" r="textAreaRight" b="textAreaBottom"/>
                <a:pathLst>
                  <a:path w="21600" h="22115">
                    <a:moveTo>
                      <a:pt x="101" y="0"/>
                    </a:moveTo>
                    <a:arcTo wR="101" hR="101" stAng="16200000" swAng="-5400000"/>
                    <a:lnTo>
                      <a:pt x="0" y="22014"/>
                    </a:lnTo>
                    <a:arcTo wR="101" hR="101" stAng="10800000" swAng="-5400000"/>
                    <a:lnTo>
                      <a:pt x="21499" y="22115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AutoShape 66"/>
              <p:cNvSpPr/>
              <p:nvPr/>
            </p:nvSpPr>
            <p:spPr>
              <a:xfrm rot="2280000">
                <a:off x="4928040" y="42292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9" name="Group 67"/>
          <p:cNvGrpSpPr/>
          <p:nvPr/>
        </p:nvGrpSpPr>
        <p:grpSpPr>
          <a:xfrm>
            <a:off x="4107960" y="4033080"/>
            <a:ext cx="1089720" cy="1092240"/>
            <a:chOff x="4107960" y="4033080"/>
            <a:chExt cx="1089720" cy="1092240"/>
          </a:xfrm>
        </p:grpSpPr>
        <p:sp>
          <p:nvSpPr>
            <p:cNvPr id="300" name="AutoShape 68"/>
            <p:cNvSpPr/>
            <p:nvPr/>
          </p:nvSpPr>
          <p:spPr>
            <a:xfrm rot="2100000">
              <a:off x="4422240" y="4411440"/>
              <a:ext cx="4842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" name="Group 69"/>
            <p:cNvGrpSpPr/>
            <p:nvPr/>
          </p:nvGrpSpPr>
          <p:grpSpPr>
            <a:xfrm>
              <a:off x="4107960" y="4033080"/>
              <a:ext cx="1089720" cy="1092240"/>
              <a:chOff x="4107960" y="4033080"/>
              <a:chExt cx="1089720" cy="1092240"/>
            </a:xfrm>
          </p:grpSpPr>
          <p:sp>
            <p:nvSpPr>
              <p:cNvPr id="302" name="AutoShape 70"/>
              <p:cNvSpPr/>
              <p:nvPr/>
            </p:nvSpPr>
            <p:spPr>
              <a:xfrm rot="2100000">
                <a:off x="4263840" y="4184640"/>
                <a:ext cx="777960" cy="788760"/>
              </a:xfrm>
              <a:custGeom>
                <a:avLst/>
                <a:gdLst>
                  <a:gd name="textAreaLeft" fmla="*/ 720 w 777960"/>
                  <a:gd name="textAreaRight" fmla="*/ 777240 w 777960"/>
                  <a:gd name="textAreaTop" fmla="*/ 720 h 788760"/>
                  <a:gd name="textAreaBottom" fmla="*/ 788040 h 788760"/>
                </a:gdLst>
                <a:ahLst/>
                <a:rect l="textAreaLeft" t="textAreaTop" r="textAreaRight" b="textAreaBottom"/>
                <a:pathLst>
                  <a:path w="21600" h="21900">
                    <a:moveTo>
                      <a:pt x="101" y="0"/>
                    </a:moveTo>
                    <a:arcTo wR="101" hR="101" stAng="16200000" swAng="-5400000"/>
                    <a:lnTo>
                      <a:pt x="0" y="21799"/>
                    </a:lnTo>
                    <a:arcTo wR="101" hR="101" stAng="10800000" swAng="-5400000"/>
                    <a:lnTo>
                      <a:pt x="21499" y="21900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AutoShape 71"/>
              <p:cNvSpPr/>
              <p:nvPr/>
            </p:nvSpPr>
            <p:spPr>
              <a:xfrm rot="2100000">
                <a:off x="4536360" y="42292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Group 72"/>
          <p:cNvGrpSpPr/>
          <p:nvPr/>
        </p:nvGrpSpPr>
        <p:grpSpPr>
          <a:xfrm>
            <a:off x="3533400" y="3966480"/>
            <a:ext cx="1229400" cy="1237680"/>
            <a:chOff x="3533400" y="3966480"/>
            <a:chExt cx="1229400" cy="1237680"/>
          </a:xfrm>
        </p:grpSpPr>
        <p:sp>
          <p:nvSpPr>
            <p:cNvPr id="305" name="AutoShape 73"/>
            <p:cNvSpPr/>
            <p:nvPr/>
          </p:nvSpPr>
          <p:spPr>
            <a:xfrm rot="2400000">
              <a:off x="3895200" y="4419360"/>
              <a:ext cx="586080" cy="3315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Group 74"/>
            <p:cNvGrpSpPr/>
            <p:nvPr/>
          </p:nvGrpSpPr>
          <p:grpSpPr>
            <a:xfrm>
              <a:off x="3533400" y="3966480"/>
              <a:ext cx="1229400" cy="1237680"/>
              <a:chOff x="3533400" y="3966480"/>
              <a:chExt cx="1229400" cy="1237680"/>
            </a:xfrm>
          </p:grpSpPr>
          <p:sp>
            <p:nvSpPr>
              <p:cNvPr id="307" name="AutoShape 75"/>
              <p:cNvSpPr/>
              <p:nvPr/>
            </p:nvSpPr>
            <p:spPr>
              <a:xfrm rot="2400000">
                <a:off x="3727080" y="4130280"/>
                <a:ext cx="841680" cy="909360"/>
              </a:xfrm>
              <a:custGeom>
                <a:avLst/>
                <a:gdLst>
                  <a:gd name="textAreaLeft" fmla="*/ 1080 w 841680"/>
                  <a:gd name="textAreaRight" fmla="*/ 840600 w 841680"/>
                  <a:gd name="textAreaTop" fmla="*/ 1080 h 909360"/>
                  <a:gd name="textAreaBottom" fmla="*/ 908280 h 909360"/>
                </a:gdLst>
                <a:ahLst/>
                <a:rect l="textAreaLeft" t="textAreaTop" r="textAreaRight" b="textAreaBottom"/>
                <a:pathLst>
                  <a:path w="21600" h="23336">
                    <a:moveTo>
                      <a:pt x="102" y="0"/>
                    </a:moveTo>
                    <a:arcTo wR="102" hR="102" stAng="16200000" swAng="-5400000"/>
                    <a:lnTo>
                      <a:pt x="0" y="23234"/>
                    </a:lnTo>
                    <a:arcTo wR="102" hR="102" stAng="10800000" swAng="-5400000"/>
                    <a:lnTo>
                      <a:pt x="21498" y="23336"/>
                    </a:lnTo>
                    <a:arcTo wR="102" hR="102" stAng="5400000" swAng="-5400000"/>
                    <a:lnTo>
                      <a:pt x="21600" y="102"/>
                    </a:lnTo>
                    <a:arcTo wR="102" hR="10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AutoShape 76"/>
              <p:cNvSpPr/>
              <p:nvPr/>
            </p:nvSpPr>
            <p:spPr>
              <a:xfrm rot="2400000">
                <a:off x="4021200" y="4198320"/>
                <a:ext cx="59004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Group 77"/>
          <p:cNvGrpSpPr/>
          <p:nvPr/>
        </p:nvGrpSpPr>
        <p:grpSpPr>
          <a:xfrm>
            <a:off x="6626880" y="4724280"/>
            <a:ext cx="410400" cy="1740600"/>
            <a:chOff x="6626880" y="4724280"/>
            <a:chExt cx="410400" cy="1740600"/>
          </a:xfrm>
        </p:grpSpPr>
        <p:sp>
          <p:nvSpPr>
            <p:cNvPr id="310" name="AutoShape 78"/>
            <p:cNvSpPr/>
            <p:nvPr/>
          </p:nvSpPr>
          <p:spPr>
            <a:xfrm>
              <a:off x="6629400" y="4724280"/>
              <a:ext cx="407880" cy="1735200"/>
            </a:xfrm>
            <a:custGeom>
              <a:avLst/>
              <a:gdLst>
                <a:gd name="textAreaLeft" fmla="*/ 360 w 407880"/>
                <a:gd name="textAreaRight" fmla="*/ 407520 w 407880"/>
                <a:gd name="textAreaTop" fmla="*/ 360 h 1735200"/>
                <a:gd name="textAreaBottom" fmla="*/ 1734840 h 1735200"/>
              </a:gdLst>
              <a:ahLst/>
              <a:rect l="textAreaLeft" t="textAreaTop" r="textAreaRight" b="textAreaBottom"/>
              <a:pathLst>
                <a:path w="21600" h="91829">
                  <a:moveTo>
                    <a:pt x="83" y="0"/>
                  </a:moveTo>
                  <a:arcTo wR="83" hR="83" stAng="16200000" swAng="-5400000"/>
                  <a:lnTo>
                    <a:pt x="0" y="91746"/>
                  </a:lnTo>
                  <a:arcTo wR="83" hR="83" stAng="10800000" swAng="-5400000"/>
                  <a:lnTo>
                    <a:pt x="21517" y="91829"/>
                  </a:lnTo>
                  <a:arcTo wR="83" hR="83" stAng="5400000" swAng="-5400000"/>
                  <a:lnTo>
                    <a:pt x="21600" y="83"/>
                  </a:lnTo>
                  <a:arcTo wR="83" hR="8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1" name="Group 79"/>
            <p:cNvGrpSpPr/>
            <p:nvPr/>
          </p:nvGrpSpPr>
          <p:grpSpPr>
            <a:xfrm>
              <a:off x="6626880" y="4724280"/>
              <a:ext cx="410400" cy="1740600"/>
              <a:chOff x="6626880" y="4724280"/>
              <a:chExt cx="410400" cy="1740600"/>
            </a:xfrm>
          </p:grpSpPr>
          <p:sp>
            <p:nvSpPr>
              <p:cNvPr id="312" name="AutoShape 80"/>
              <p:cNvSpPr/>
              <p:nvPr/>
            </p:nvSpPr>
            <p:spPr>
              <a:xfrm>
                <a:off x="6629400" y="4724280"/>
                <a:ext cx="407880" cy="1735200"/>
              </a:xfrm>
              <a:custGeom>
                <a:avLst/>
                <a:gdLst>
                  <a:gd name="textAreaLeft" fmla="*/ 360 w 407880"/>
                  <a:gd name="textAreaRight" fmla="*/ 407520 w 407880"/>
                  <a:gd name="textAreaTop" fmla="*/ 360 h 1735200"/>
                  <a:gd name="textAreaBottom" fmla="*/ 1734840 h 1735200"/>
                </a:gdLst>
                <a:ahLst/>
                <a:rect l="textAreaLeft" t="textAreaTop" r="textAreaRight" b="textAreaBottom"/>
                <a:pathLst>
                  <a:path w="21600" h="91829">
                    <a:moveTo>
                      <a:pt x="83" y="0"/>
                    </a:moveTo>
                    <a:arcTo wR="83" hR="83" stAng="16200000" swAng="-5400000"/>
                    <a:lnTo>
                      <a:pt x="0" y="91746"/>
                    </a:lnTo>
                    <a:arcTo wR="83" hR="83" stAng="10800000" swAng="-5400000"/>
                    <a:lnTo>
                      <a:pt x="21517" y="918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AutoShape 81"/>
              <p:cNvSpPr/>
              <p:nvPr/>
            </p:nvSpPr>
            <p:spPr>
              <a:xfrm>
                <a:off x="6626880" y="4724280"/>
                <a:ext cx="410040" cy="1740600"/>
              </a:xfrm>
              <a:custGeom>
                <a:avLst/>
                <a:gdLst>
                  <a:gd name="textAreaLeft" fmla="*/ 360 w 410040"/>
                  <a:gd name="textAreaRight" fmla="*/ 409680 w 410040"/>
                  <a:gd name="textAreaTop" fmla="*/ 360 h 1740600"/>
                  <a:gd name="textAreaBottom" fmla="*/ 1740240 h 1740600"/>
                </a:gdLst>
                <a:ahLst/>
                <a:rect l="textAreaLeft" t="textAreaTop" r="textAreaRight" b="textAreaBottom"/>
                <a:pathLst>
                  <a:path w="21600" h="91629">
                    <a:moveTo>
                      <a:pt x="83" y="0"/>
                    </a:moveTo>
                    <a:arcTo wR="83" hR="83" stAng="16200000" swAng="-5400000"/>
                    <a:lnTo>
                      <a:pt x="0" y="91546"/>
                    </a:lnTo>
                    <a:arcTo wR="83" hR="83" stAng="10800000" swAng="-5400000"/>
                    <a:lnTo>
                      <a:pt x="21517" y="916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	</a:t>
                </a: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4" name="Freeform 82"/>
          <p:cNvSpPr/>
          <p:nvPr/>
        </p:nvSpPr>
        <p:spPr>
          <a:xfrm>
            <a:off x="6934320" y="4724280"/>
            <a:ext cx="457200" cy="1676520"/>
          </a:xfrm>
          <a:custGeom>
            <a:avLst/>
            <a:gdLst/>
            <a:ahLst/>
            <a:rect l="l" t="t" r="r" b="b"/>
            <a:pathLst>
              <a:path w="1271" h="4658">
                <a:moveTo>
                  <a:pt x="0" y="0"/>
                </a:moveTo>
                <a:cubicBezTo>
                  <a:pt x="317" y="0"/>
                  <a:pt x="635" y="194"/>
                  <a:pt x="635" y="388"/>
                </a:cubicBezTo>
                <a:lnTo>
                  <a:pt x="635" y="1940"/>
                </a:lnTo>
                <a:cubicBezTo>
                  <a:pt x="635" y="2134"/>
                  <a:pt x="953" y="2328"/>
                  <a:pt x="1270" y="2328"/>
                </a:cubicBezTo>
                <a:cubicBezTo>
                  <a:pt x="953" y="2328"/>
                  <a:pt x="635" y="2523"/>
                  <a:pt x="635" y="2717"/>
                </a:cubicBezTo>
                <a:lnTo>
                  <a:pt x="635" y="4269"/>
                </a:lnTo>
                <a:cubicBezTo>
                  <a:pt x="635" y="4463"/>
                  <a:pt x="317" y="4657"/>
                  <a:pt x="0" y="46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Line 83"/>
          <p:cNvSpPr/>
          <p:nvPr/>
        </p:nvSpPr>
        <p:spPr>
          <a:xfrm flipH="1">
            <a:off x="7455960" y="5562720"/>
            <a:ext cx="3272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84"/>
          <p:cNvSpPr/>
          <p:nvPr/>
        </p:nvSpPr>
        <p:spPr>
          <a:xfrm flipV="1">
            <a:off x="7772400" y="3417480"/>
            <a:ext cx="1440" cy="215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Group 85"/>
          <p:cNvGrpSpPr/>
          <p:nvPr/>
        </p:nvGrpSpPr>
        <p:grpSpPr>
          <a:xfrm>
            <a:off x="990720" y="5531400"/>
            <a:ext cx="3498840" cy="510120"/>
            <a:chOff x="990720" y="5531400"/>
            <a:chExt cx="3498840" cy="510120"/>
          </a:xfrm>
        </p:grpSpPr>
        <p:sp>
          <p:nvSpPr>
            <p:cNvPr id="318" name="AutoShape 86"/>
            <p:cNvSpPr/>
            <p:nvPr/>
          </p:nvSpPr>
          <p:spPr>
            <a:xfrm>
              <a:off x="990720" y="5611680"/>
              <a:ext cx="3498840" cy="354240"/>
            </a:xfrm>
            <a:prstGeom prst="roundRect">
              <a:avLst>
                <a:gd name="adj" fmla="val 444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9" name="Group 87"/>
            <p:cNvGrpSpPr/>
            <p:nvPr/>
          </p:nvGrpSpPr>
          <p:grpSpPr>
            <a:xfrm>
              <a:off x="990720" y="5531400"/>
              <a:ext cx="3497040" cy="510120"/>
              <a:chOff x="990720" y="5531400"/>
              <a:chExt cx="3497040" cy="510120"/>
            </a:xfrm>
          </p:grpSpPr>
          <p:sp>
            <p:nvSpPr>
              <p:cNvPr id="320" name="AutoShape 88"/>
              <p:cNvSpPr/>
              <p:nvPr/>
            </p:nvSpPr>
            <p:spPr>
              <a:xfrm>
                <a:off x="990720" y="5610240"/>
                <a:ext cx="3497040" cy="353880"/>
              </a:xfrm>
              <a:prstGeom prst="roundRect">
                <a:avLst>
                  <a:gd name="adj" fmla="val 44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Text Box 89"/>
              <p:cNvSpPr/>
              <p:nvPr/>
            </p:nvSpPr>
            <p:spPr>
              <a:xfrm>
                <a:off x="990720" y="5531400"/>
                <a:ext cx="3497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1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19 in decim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990960" cy="3933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Symbols and Tex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504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ach letter and symbol in a text document must be translated into a binary number for storage in the comput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ndardized means of storing these cod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SCII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American Standard Code for Information Interchang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BCDIC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Extended Binary Coded Decimal Interchange Cod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UNICODE (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tended ASCII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kursus annab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aldab esimese semestri jooksul enamvähem aru saad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infotehnoloogia, mis on meie erial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est edaspidistes IT kursustes juttu tule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erinevad IT teemad omavahel seotud 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teema on milleks oluline: praktikas ja teooria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IT on arenenud ja mida võiks lähiaastatel ood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6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ictures must be translated into a binary format for storage in the comput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picture is broken down into small element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se elements are called Pixels (Picture Elements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gitiz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device that converts a picture into a binary format for storage in the computer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amples of digitizers: scanner, digital camer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ized picture of a tig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943600" cy="397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lack and whit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ixel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e either 0 or 1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3733920" cy="303516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4"/>
          <p:cNvGrpSpPr/>
          <p:nvPr/>
        </p:nvGrpSpPr>
        <p:grpSpPr>
          <a:xfrm>
            <a:off x="5712480" y="2133720"/>
            <a:ext cx="2845440" cy="4209480"/>
            <a:chOff x="5712480" y="2133720"/>
            <a:chExt cx="2845440" cy="4209480"/>
          </a:xfrm>
        </p:grpSpPr>
        <p:sp>
          <p:nvSpPr>
            <p:cNvPr id="334" name="AutoShape 5"/>
            <p:cNvSpPr/>
            <p:nvPr/>
          </p:nvSpPr>
          <p:spPr>
            <a:xfrm>
              <a:off x="5715000" y="2133720"/>
              <a:ext cx="2808360" cy="4182840"/>
            </a:xfrm>
            <a:custGeom>
              <a:avLst/>
              <a:gdLst>
                <a:gd name="textAreaLeft" fmla="*/ 360 w 2808360"/>
                <a:gd name="textAreaRight" fmla="*/ 2808000 w 2808360"/>
                <a:gd name="textAreaTop" fmla="*/ 360 h 4182840"/>
                <a:gd name="textAreaBottom" fmla="*/ 4182480 h 4182840"/>
              </a:gdLst>
              <a:ahLst/>
              <a:rect l="textAreaLeft" t="textAreaTop" r="textAreaRight" b="textAreaBottom"/>
              <a:pathLst>
                <a:path w="21600" h="32170">
                  <a:moveTo>
                    <a:pt x="12" y="0"/>
                  </a:moveTo>
                  <a:arcTo wR="12" hR="12" stAng="16200000" swAng="-5400000"/>
                  <a:lnTo>
                    <a:pt x="0" y="32158"/>
                  </a:lnTo>
                  <a:arcTo wR="12" hR="12" stAng="10800000" swAng="-5400000"/>
                  <a:lnTo>
                    <a:pt x="21588" y="32170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5" name="Group 6"/>
            <p:cNvGrpSpPr/>
            <p:nvPr/>
          </p:nvGrpSpPr>
          <p:grpSpPr>
            <a:xfrm>
              <a:off x="5712480" y="2133720"/>
              <a:ext cx="2845440" cy="4209480"/>
              <a:chOff x="5712480" y="2133720"/>
              <a:chExt cx="2845440" cy="4209480"/>
            </a:xfrm>
          </p:grpSpPr>
          <p:sp>
            <p:nvSpPr>
              <p:cNvPr id="336" name="AutoShape 7"/>
              <p:cNvSpPr/>
              <p:nvPr/>
            </p:nvSpPr>
            <p:spPr>
              <a:xfrm>
                <a:off x="5715000" y="2133720"/>
                <a:ext cx="2808360" cy="4182840"/>
              </a:xfrm>
              <a:custGeom>
                <a:avLst/>
                <a:gdLst>
                  <a:gd name="textAreaLeft" fmla="*/ 360 w 2808360"/>
                  <a:gd name="textAreaRight" fmla="*/ 2808000 w 2808360"/>
                  <a:gd name="textAreaTop" fmla="*/ 360 h 4182840"/>
                  <a:gd name="textAreaBottom" fmla="*/ 4182480 h 4182840"/>
                </a:gdLst>
                <a:ahLst/>
                <a:rect l="textAreaLeft" t="textAreaTop" r="textAreaRight" b="textAreaBottom"/>
                <a:pathLst>
                  <a:path w="21600" h="32170">
                    <a:moveTo>
                      <a:pt x="12" y="0"/>
                    </a:moveTo>
                    <a:arcTo wR="12" hR="12" stAng="16200000" swAng="-5400000"/>
                    <a:lnTo>
                      <a:pt x="0" y="32158"/>
                    </a:lnTo>
                    <a:arcTo wR="12" hR="12" stAng="10800000" swAng="-5400000"/>
                    <a:lnTo>
                      <a:pt x="21588" y="32170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AutoShape 8"/>
              <p:cNvSpPr/>
              <p:nvPr/>
            </p:nvSpPr>
            <p:spPr>
              <a:xfrm>
                <a:off x="5712480" y="2133720"/>
                <a:ext cx="2845440" cy="4209480"/>
              </a:xfrm>
              <a:custGeom>
                <a:avLst/>
                <a:gdLst>
                  <a:gd name="textAreaLeft" fmla="*/ 360 w 2845440"/>
                  <a:gd name="textAreaRight" fmla="*/ 2845080 w 2845440"/>
                  <a:gd name="textAreaTop" fmla="*/ 360 h 4209480"/>
                  <a:gd name="textAreaBottom" fmla="*/ 4209120 h 4209480"/>
                </a:gdLst>
                <a:ahLst/>
                <a:rect l="textAreaLeft" t="textAreaTop" r="textAreaRight" b="textAreaBottom"/>
                <a:pathLst>
                  <a:path w="21600" h="31953">
                    <a:moveTo>
                      <a:pt x="12" y="0"/>
                    </a:moveTo>
                    <a:arcTo wR="12" hR="12" stAng="16200000" swAng="-5400000"/>
                    <a:lnTo>
                      <a:pt x="0" y="31941"/>
                    </a:lnTo>
                    <a:arcTo wR="12" hR="12" stAng="10800000" swAng="-5400000"/>
                    <a:lnTo>
                      <a:pt x="21588" y="31953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0000000000000000000000000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000000000001000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00000000010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0000000001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00000000001011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10000000000011110000000000000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1001000000000111110101010111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1111011101111111010000000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00100000110111110111111011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000000111110111101011101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1000111010101010110100000000000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0100000011101010101101010100000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100000010101001000000000000000000011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100101010000000000000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01100101000000000000000000001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1001010101010010010101000000000000000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00011111101001011011101010110000000101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11110101111111111101011011010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10111110111111111111111111101111110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10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0001110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01001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10101111111111111111110111111001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11101111111111111111111111101101010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1111111111111111101011011110111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01110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111111110010111101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01011111011101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11111111101011111110111111011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1111011010101100001011111111111111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Gray-Sca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ach pixel contains a value representing some shade of gra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more shades of gray possible, the more memory will be neede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4 shades of gray needs 2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, 01, 10, 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8 shades of gray needs 3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0, 001, 010, 011, 100, 101, 110, 1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64 shades of gray needs 6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0000, 000001, … 111110, 1111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1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238120" cy="48769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7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ssage transmission from the Arecibo radio telescope in Puerto Rico to other star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rage of Binary Informa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apacit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5" name="Group 3"/>
          <p:cNvGrpSpPr/>
          <p:nvPr/>
        </p:nvGrpSpPr>
        <p:grpSpPr>
          <a:xfrm>
            <a:off x="960840" y="2362320"/>
            <a:ext cx="6996960" cy="3386160"/>
            <a:chOff x="960840" y="2362320"/>
            <a:chExt cx="6996960" cy="3386160"/>
          </a:xfrm>
        </p:grpSpPr>
        <p:sp>
          <p:nvSpPr>
            <p:cNvPr id="346" name="AutoShape 4"/>
            <p:cNvSpPr/>
            <p:nvPr/>
          </p:nvSpPr>
          <p:spPr>
            <a:xfrm>
              <a:off x="990720" y="2362320"/>
              <a:ext cx="6927840" cy="3375000"/>
            </a:xfrm>
            <a:prstGeom prst="roundRect">
              <a:avLst>
                <a:gd name="adj" fmla="val 46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7" name="Group 5"/>
            <p:cNvGrpSpPr/>
            <p:nvPr/>
          </p:nvGrpSpPr>
          <p:grpSpPr>
            <a:xfrm>
              <a:off x="960840" y="2362320"/>
              <a:ext cx="6996960" cy="3386160"/>
              <a:chOff x="960840" y="2362320"/>
              <a:chExt cx="6996960" cy="3386160"/>
            </a:xfrm>
          </p:grpSpPr>
          <p:sp>
            <p:nvSpPr>
              <p:cNvPr id="348" name="AutoShape 6"/>
              <p:cNvSpPr/>
              <p:nvPr/>
            </p:nvSpPr>
            <p:spPr>
              <a:xfrm>
                <a:off x="990720" y="2362320"/>
                <a:ext cx="6926040" cy="3373200"/>
              </a:xfrm>
              <a:prstGeom prst="roundRect">
                <a:avLst>
                  <a:gd name="adj" fmla="val 46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49" name="Group 7"/>
              <p:cNvGrpSpPr/>
              <p:nvPr/>
            </p:nvGrpSpPr>
            <p:grpSpPr>
              <a:xfrm>
                <a:off x="960840" y="2362320"/>
                <a:ext cx="6996960" cy="3386160"/>
                <a:chOff x="960840" y="2362320"/>
                <a:chExt cx="6996960" cy="3386160"/>
              </a:xfrm>
            </p:grpSpPr>
            <p:sp>
              <p:nvSpPr>
                <p:cNvPr id="350" name="AutoShape 8"/>
                <p:cNvSpPr/>
                <p:nvPr/>
              </p:nvSpPr>
              <p:spPr>
                <a:xfrm>
                  <a:off x="990720" y="2362320"/>
                  <a:ext cx="6926040" cy="337320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AutoShape 9"/>
                <p:cNvSpPr/>
                <p:nvPr/>
              </p:nvSpPr>
              <p:spPr>
                <a:xfrm>
                  <a:off x="960840" y="2362320"/>
                  <a:ext cx="6996960" cy="338616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Unit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Approximate Siz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t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nary digi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nibbl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4 bit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8 bit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characte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kilo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/2 page, double spaced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e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48,576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00,000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illion byt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gi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73,741,8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million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llion byt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er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rillion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billion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Fac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clarative: statement of being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parts knowledg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nstructi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perative: demands action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rols information or activity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nstruction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st be stored within the computer before us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st be stored in binary for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set of binary instructions is called a progra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collection of instructions for the computer to perform one by o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achine Languag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language of the computing machi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instructions must be in the form of binary numbers (binary code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tored-program Comput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so known as the von Neumann-type computer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as memory - a place to keep both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structions (ie program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 the needed information (ie data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eded for computation by the computer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-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hind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1120" indent="-3182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kku ca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30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t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iga nädal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reedeti kaks loengut järjes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1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31860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12:00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kavas olev sisu, eksamiks kriitiline, õppejõud T.Tamme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31860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13:45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erinevad teemad / kursuste ülevaated / õppejõud,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osa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eksamil kajastatud,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osa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e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1120" indent="-3182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kumid on iseõppelised: juhendamist neis ei toim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1120" indent="-3182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ga nädal on vaja veebis teha mikro-kontrolltöö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1120" indent="-3182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 lõpeb kirjaliku eksamiga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1120" indent="-3182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ursuse hinne arvutatakse nii: eksamipunktid (0-100)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+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ontrolltööde summaarne tulemus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1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31860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gas kontrolltöös on kümme küsimust: kaks viga kontrolltöös on üks veapunkt,  neli kaks veapunkti jne, tegemata kontrolltöö on viis veapunkti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31860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udengi kõigi kontrolltööde miinuspunktide summast lahutatakse keskmine kontrolltööde miinuspunktide summa, vahe ongi summaarne tulemu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21120" indent="0">
              <a:lnSpc>
                <a:spcPct val="88000"/>
              </a:lnSpc>
              <a:spcBef>
                <a:spcPts val="3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7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naloog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e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vs diskreet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0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idevad ehk analoog-asj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aga arvud, murru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igonomeetri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temaatiline analüü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assikaline füüs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õõtmised, tugevus jms klassikaline insenerivär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atkevad ehk diskreetsed asj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arv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g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ulkade struktuu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2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63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8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ega ja milleks tegeleda? Kaks keerukalt seotud poolus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rvutiteadus: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ha võimalikult keerulisi asju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ommertsrakendused: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iendile meelepäraseid asj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68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0" name="Line 6"/>
          <p:cNvSpPr/>
          <p:nvPr/>
        </p:nvSpPr>
        <p:spPr>
          <a:xfrm>
            <a:off x="3048120" y="2682720"/>
            <a:ext cx="1440" cy="126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3200400" y="3086280"/>
            <a:ext cx="50245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Inseneriasjand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: teha kõike lihtsamal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rvutitea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"/>
            <a:ext cx="7848720" cy="757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atemaatiline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ebra erihar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atav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ruk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aktilisem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oritm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rifitseerimine, järelduste automatiseer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pp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led ja kompilaato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rüp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eel praktilisem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mebaaside teooria ja tehnoloogi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ailisüsteemid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igraafika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süsteemid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75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kommertsrakend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-720720"/>
            <a:ext cx="7848720" cy="852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Laiatarberakend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psüsteemid, draiveri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redaktorid, brauserid, epost jn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dised võrgurakendused: google, youtube, skype, .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äng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sugu utiliid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vahend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o, raamatupidamissüsteemide jms toor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rirakend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ngarakendused, telekomirakendused jne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aalsed lao- ja tellimissüsteem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rma andmebaas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rma süsteemide sidu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9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80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esti ülikoolikoolkonnad IT valdkonnas: ajaloolised allik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9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ltech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jandusteaduskon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ktroon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überneetika instituu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TK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päri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ltech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tu ülikoo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ttevõtt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tu ülikoo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tis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usmeetodite teoree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ud matemaa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llinna ülikoo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temaa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umanitaa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85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materjalid ja töö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l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ei ol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tegi konkreetset õpiku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õik kursuse materjalid ja informatsioon on sellel lehe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lambda.ee/wiki/Sissejuhatus_infotehnoloogias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materjale on nii eesti- kui ingliskeelse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aks otsestele loengumaterjalidele on võrgus antud ka muud loengu teema omandamiseks vajalikud materjalid, enamasti ingliskeels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etavaid detaile saab kuulda ainult loengus käies. Iseõppimine on teoreetiliselt võimalik, kuid on raske ja ajamahuka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praktiliste töödena (arvutil) kasutame erinevaid veebirakendus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muud kohustuslikud tööd on lihtsalt lugemisülesand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7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algu soovitav kirjan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52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oovit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ad igapäevaselt loetavad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saidid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ws.ycombinator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reddit.co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(vali sobivad alamredditid!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Mõned soovitavad p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odcast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s://lexfridman.com/podcast/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A.I. Podcas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s://www.preposterousuniverse.com/podcast/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Mindscap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Loomulikul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akka lugema kursuse lehel olevat kohustuslikku kirjand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8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loengukav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1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Vaata: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lambda.ee/wiki/Sissejuhatus_infotehnoloogias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8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erminoloogi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9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4334040" cy="578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23-09-07T17:24:39Z</dcterms:modified>
  <cp:revision>44</cp:revision>
  <dc:subject/>
  <dc:title> </dc:title>
</cp:coreProperties>
</file>